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75E6-F1EE-4B05-BAA5-5773ADD71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A7B4-8D93-47FE-A677-03766854F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799B-7153-499B-A623-1D5C54CFF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7357-21BD-4610-9879-28C80473C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08C8-AB51-48E4-B975-C1BBAB526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37E7-88B7-401B-B417-12FD0DEF8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F350-EDA3-4F54-92A9-4E7ABD908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3488-B383-4E72-AFCE-341F99605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8940-248C-4EAD-837C-E71DB5B3B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DF5A-5BCB-4158-B5E5-DEE0973C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3F2F-85BD-4FA7-911F-C2F84575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0840-0D8B-4166-9E29-DF26E0AD2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25004-A629-48CB-B5BA-A0AC8DE04AF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発注方法を見直すことによって、大きな在庫の削減が期待できる。在庫回転率の悪い商品については、すぐに発注方法の見直しを行っていく必要があ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8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8161200" cy="2266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2"/>
          <a:stretch/>
        </p:blipFill>
        <p:spPr>
          <a:xfrm>
            <a:off x="468360" y="4575240"/>
            <a:ext cx="8174160" cy="2255760"/>
          </a:xfrm>
          <a:prstGeom prst="rect">
            <a:avLst/>
          </a:prstGeom>
          <a:ln w="0">
            <a:noFill/>
          </a:ln>
        </p:spPr>
      </p:pic>
      <p:sp>
        <p:nvSpPr>
          <p:cNvPr id="44" name="角丸四角形 5"/>
          <p:cNvSpPr/>
          <p:nvPr/>
        </p:nvSpPr>
        <p:spPr>
          <a:xfrm>
            <a:off x="900000" y="1628640"/>
            <a:ext cx="2087640" cy="360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009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年度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5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月実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二等辺三角形 6"/>
          <p:cNvSpPr/>
          <p:nvPr/>
        </p:nvSpPr>
        <p:spPr>
          <a:xfrm rot="10800000">
            <a:off x="3053880" y="4040280"/>
            <a:ext cx="2094120" cy="382320"/>
          </a:xfrm>
          <a:prstGeom prst="triangle">
            <a:avLst>
              <a:gd name="adj" fmla="val 50000"/>
            </a:avLst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角丸四角形 14"/>
          <p:cNvSpPr/>
          <p:nvPr/>
        </p:nvSpPr>
        <p:spPr>
          <a:xfrm>
            <a:off x="914400" y="4422600"/>
            <a:ext cx="4449600" cy="360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009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年度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5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月実績ベースのシミュレーショ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直線コネクタ 9"/>
          <p:cNvSpPr/>
          <p:nvPr/>
        </p:nvSpPr>
        <p:spPr>
          <a:xfrm>
            <a:off x="784080" y="2681280"/>
            <a:ext cx="6767640" cy="0"/>
          </a:xfrm>
          <a:prstGeom prst="line">
            <a:avLst/>
          </a:prstGeom>
          <a:ln w="7632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線コネクタ 19"/>
          <p:cNvSpPr/>
          <p:nvPr/>
        </p:nvSpPr>
        <p:spPr>
          <a:xfrm>
            <a:off x="826920" y="5489640"/>
            <a:ext cx="6769440" cy="0"/>
          </a:xfrm>
          <a:prstGeom prst="line">
            <a:avLst/>
          </a:prstGeom>
          <a:ln w="7632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テキスト ボックス 10"/>
          <p:cNvSpPr/>
          <p:nvPr/>
        </p:nvSpPr>
        <p:spPr>
          <a:xfrm>
            <a:off x="6515640" y="4049640"/>
            <a:ext cx="1681560" cy="10674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シミュレーション結果で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実績と比較すると、在庫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量が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200</a:t>
            </a: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を超える日が大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きく減少している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4T06:11:43Z</dcterms:created>
  <dc:creator>Gihyo</dc:creator>
  <dc:description/>
  <dc:language>en-US</dc:language>
  <cp:lastModifiedBy>IAF Consulting Inc.</cp:lastModifiedBy>
  <dcterms:modified xsi:type="dcterms:W3CDTF">2010-09-14T07:51:49Z</dcterms:modified>
  <cp:revision>4</cp:revision>
  <dc:subject/>
  <dc:title>発注方法を見直すことによって、大きな在庫の削減が期待できる。在庫回転率の悪い商品については、すぐに発注方法の見直しを行っていく必要がある。</dc:title>
</cp:coreProperties>
</file>