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CAC4-90FB-4EB9-928C-FD27AC5E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9DFA-019D-4479-830F-B8839F90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8C5-5332-499D-8AFB-70353B97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D8E-D876-4AFD-9EF3-F90B497D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759-D995-43B5-8227-10C2B2A7E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CB92-F581-45B3-9E1A-7745FEF75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BDB-6966-4409-9491-D5B5D15CE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81ED-4726-4775-851B-2B79495A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19E4-4609-49D6-B329-49099373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085-FCAF-4E6F-8271-80E2D94A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BC0-9DFA-476E-993A-F2606601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E187-2A1C-4A82-976B-C3E6C4E7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18825-2C0C-4014-8C26-6879FA19811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会社全体の営業利益は伸びてきているものの、酒類事業部の落ち込みが大きい。詳細な状況を確認し、対応策を即時に検討する必要がある。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また、食品事業部の伸びが著しく、積極的な投資を考えていくべ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7416720" cy="5317920"/>
          </a:xfrm>
          <a:prstGeom prst="rect">
            <a:avLst/>
          </a:prstGeom>
          <a:ln w="0">
            <a:noFill/>
          </a:ln>
        </p:spPr>
      </p:pic>
      <p:sp>
        <p:nvSpPr>
          <p:cNvPr id="43" name="下矢印 4"/>
          <p:cNvSpPr/>
          <p:nvPr/>
        </p:nvSpPr>
        <p:spPr>
          <a:xfrm>
            <a:off x="324000" y="1844640"/>
            <a:ext cx="1008000" cy="4753080"/>
          </a:xfrm>
          <a:prstGeom prst="downArrow">
            <a:avLst>
              <a:gd name="adj1" fmla="val 72324"/>
              <a:gd name="adj2" fmla="val 50013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角丸四角形 5"/>
          <p:cNvSpPr/>
          <p:nvPr/>
        </p:nvSpPr>
        <p:spPr>
          <a:xfrm>
            <a:off x="179280" y="242100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15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角丸四角形 7"/>
          <p:cNvSpPr/>
          <p:nvPr/>
        </p:nvSpPr>
        <p:spPr>
          <a:xfrm>
            <a:off x="179280" y="321300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28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角丸四角形 8"/>
          <p:cNvSpPr/>
          <p:nvPr/>
        </p:nvSpPr>
        <p:spPr>
          <a:xfrm>
            <a:off x="179280" y="400536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44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角丸四角形 9"/>
          <p:cNvSpPr/>
          <p:nvPr/>
        </p:nvSpPr>
        <p:spPr>
          <a:xfrm>
            <a:off x="179280" y="479736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64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角丸四角形 10"/>
          <p:cNvSpPr/>
          <p:nvPr/>
        </p:nvSpPr>
        <p:spPr>
          <a:xfrm>
            <a:off x="179280" y="5589720"/>
            <a:ext cx="1297080" cy="2872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\2,790,0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10:20:58Z</dcterms:created>
  <dc:creator>Gihyo</dc:creator>
  <dc:description/>
  <dc:language>en-US</dc:language>
  <cp:lastModifiedBy>Gihyo</cp:lastModifiedBy>
  <dcterms:modified xsi:type="dcterms:W3CDTF">2010-09-14T03:44:55Z</dcterms:modified>
  <cp:revision>2</cp:revision>
  <dc:subject/>
  <dc:title>会社全体の営業利益は伸びてきているものの、酒類事業部の落ち込みが大きい。詳細な状況を確認し、対応策を即時に検討する必要がある。 また、食品事業部の伸びが著しく、積極的な投資を考えていくべき。</dc:title>
</cp:coreProperties>
</file>