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3E39-C09A-49FD-A895-07B897841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4333-FAE5-452B-B7DD-F2825152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5C97-BC8F-4274-AE37-E738B0D2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BE9D-E41B-47B0-A668-87C748D9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8F2E-9E4C-4A50-B626-638B8395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8551-1CEA-4DDE-B082-75062795E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A16F-7AAB-49F4-83CD-BD331044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E729-467D-4963-9130-84CF5451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7D61-08D5-40B2-BB7E-20FBCF36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73C4-2D35-4906-A367-4222DC69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9303-8063-46FE-8000-7EC92BDB2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A57F-F6F7-45C0-9231-95A5853D4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6839-A17D-4CA9-BC18-BE2A5E09E3D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わが社の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つの事業部のうち、自転車用品事業部が順調に売上を伸ばしてきている。この機に大きな販促を実施し、シェアの拡大を狙っていきたい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347760" y="2492280"/>
            <a:ext cx="4649760" cy="3040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5099040" y="1670040"/>
            <a:ext cx="3720960" cy="2432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3"/>
          <a:stretch/>
        </p:blipFill>
        <p:spPr>
          <a:xfrm>
            <a:off x="5099040" y="4165560"/>
            <a:ext cx="3720960" cy="2432160"/>
          </a:xfrm>
          <a:prstGeom prst="rect">
            <a:avLst/>
          </a:prstGeom>
          <a:ln w="0">
            <a:noFill/>
          </a:ln>
        </p:spPr>
      </p:pic>
      <p:sp>
        <p:nvSpPr>
          <p:cNvPr id="45" name="右矢印 4"/>
          <p:cNvSpPr/>
          <p:nvPr/>
        </p:nvSpPr>
        <p:spPr>
          <a:xfrm rot="21154200">
            <a:off x="971280" y="3215880"/>
            <a:ext cx="3313080" cy="287280"/>
          </a:xfrm>
          <a:prstGeom prst="rightArrow">
            <a:avLst>
              <a:gd name="adj1" fmla="val 50000"/>
              <a:gd name="adj2" fmla="val 5013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右矢印 12"/>
          <p:cNvSpPr/>
          <p:nvPr/>
        </p:nvSpPr>
        <p:spPr>
          <a:xfrm rot="369000">
            <a:off x="5586480" y="2274840"/>
            <a:ext cx="2651040" cy="2732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右矢印 13"/>
          <p:cNvSpPr/>
          <p:nvPr/>
        </p:nvSpPr>
        <p:spPr>
          <a:xfrm>
            <a:off x="5580000" y="4595760"/>
            <a:ext cx="2651040" cy="273240"/>
          </a:xfrm>
          <a:prstGeom prst="rightArrow">
            <a:avLst>
              <a:gd name="adj1" fmla="val 50000"/>
              <a:gd name="adj2" fmla="val 5008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テキスト ボックス 5"/>
          <p:cNvSpPr/>
          <p:nvPr/>
        </p:nvSpPr>
        <p:spPr>
          <a:xfrm>
            <a:off x="2079360" y="3689280"/>
            <a:ext cx="1415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売上が右肩上がり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上がってき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15"/>
          <p:cNvSpPr/>
          <p:nvPr/>
        </p:nvSpPr>
        <p:spPr>
          <a:xfrm>
            <a:off x="6317640" y="2679840"/>
            <a:ext cx="11408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売上が下がっ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き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テキスト ボックス 16"/>
          <p:cNvSpPr/>
          <p:nvPr/>
        </p:nvSpPr>
        <p:spPr>
          <a:xfrm>
            <a:off x="6335280" y="4905360"/>
            <a:ext cx="114084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売上が堅調に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移してい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05:11:18Z</dcterms:created>
  <dc:creator>Gihyo</dc:creator>
  <dc:description/>
  <dc:language>en-US</dc:language>
  <cp:lastModifiedBy>Gihyo</cp:lastModifiedBy>
  <dcterms:modified xsi:type="dcterms:W3CDTF">2010-09-14T03:16:28Z</dcterms:modified>
  <cp:revision>3</cp:revision>
  <dc:subject/>
  <dc:title>PowerPoint プレゼンテーション</dc:title>
</cp:coreProperties>
</file>