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9C8B-9C7C-4691-8911-805EE73D6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A52-1751-40E4-AD2E-3FAA694E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8F30-352C-4714-8FD3-35C9B5B2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22DA-7DEA-4A3F-B424-E964701F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59F8-BBC9-42B2-A35A-39104384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CF5-1935-4009-A4D1-63996072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896E-8029-4818-B4DF-AD8C8CE3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0D6-7221-43D3-B2CF-360C4C2F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BE57-086D-462F-B36A-DE1424A3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6FE-2C20-40DA-94CF-F242B0B2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E77D-FAFE-4B70-A2A4-FF0C9D05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4E9F-060F-4B8A-B285-B94D53D0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D3AA-86D4-4070-A9BC-0715E07AC78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月におい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スイート」は販売の減少が、「ビター」は販売の増加が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予測されることがわかった。この分析結果を踏まえ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初期生産量を、「スイート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減、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「ビター」については前年比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%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</a:rPr>
              <a:t>増とす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142920" y="5448240"/>
            <a:ext cx="435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回帰分析の結果によると、気温と販売数量の間には、「スタンダード」では、ほとんど相関関係がないが、「スイート」と「ビター」については、極めて強い相関間関係があ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5"/>
          <p:cNvSpPr/>
          <p:nvPr/>
        </p:nvSpPr>
        <p:spPr>
          <a:xfrm>
            <a:off x="4643280" y="5448240"/>
            <a:ext cx="42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来年は暖冬傾向が示されているため、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1-3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月の販売数量は前年比で、「スイート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減少、「ビター」について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5-10%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の増加が予測される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73160" y="2550960"/>
            <a:ext cx="4198680" cy="2749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4348080" y="2550960"/>
            <a:ext cx="457992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1T10:08:35Z</dcterms:created>
  <dc:creator>平井 明夫</dc:creator>
  <dc:description/>
  <dc:language>en-US</dc:language>
  <cp:lastModifiedBy>Gihyo</cp:lastModifiedBy>
  <dcterms:modified xsi:type="dcterms:W3CDTF">2010-09-14T03:34:15Z</dcterms:modified>
  <cp:revision>24</cp:revision>
  <dc:subject/>
  <dc:title>スライド 1</dc:title>
</cp:coreProperties>
</file>