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1CD-BF8B-41C8-9CB3-41AFB32C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C7C2-D033-4A4F-9629-366473E1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7EA2-B3E6-42B9-8D4B-B63C2B4FF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B952-3B3A-40C2-B934-0FA06A25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C02D-1B25-4B76-B0F0-444E5BD0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301D-476D-4DD2-8685-0F2FDCA37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2DFD-A83B-4240-8653-25213C3E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6302-2B53-49D1-AF6D-F04D39F02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2E8B-ABDD-4293-9D90-37B2F5A2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BB08-C000-4422-9CD0-E624454C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764-3CD0-4B13-8F91-6AC40F00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9786-BB10-4F30-A6FA-320EBC20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1B1D-6AA7-4B31-8CF1-C6D1BB5C2DD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商品ごとの利益金額を考慮した棚割りに変更することによって、棚あたりの利益額を増加させることができ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458200" cy="287964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4"/>
          <p:cNvSpPr/>
          <p:nvPr/>
        </p:nvSpPr>
        <p:spPr>
          <a:xfrm>
            <a:off x="4386240" y="484020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れまですべての商品を均等に並べていたが、線形計画法を使って算出した最適値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うことによって、棚の大きさや並べる商品の種類を変えずに、棚あたりの利益額を増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させることが可能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5"/>
          <p:cNvSpPr/>
          <p:nvPr/>
        </p:nvSpPr>
        <p:spPr>
          <a:xfrm>
            <a:off x="4154400" y="2492280"/>
            <a:ext cx="863640" cy="187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6012000" y="2492280"/>
            <a:ext cx="863640" cy="187344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6"/>
          <p:cNvSpPr/>
          <p:nvPr/>
        </p:nvSpPr>
        <p:spPr>
          <a:xfrm>
            <a:off x="5148360" y="2924280"/>
            <a:ext cx="718920" cy="10094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8"/>
          <p:cNvSpPr/>
          <p:nvPr/>
        </p:nvSpPr>
        <p:spPr>
          <a:xfrm>
            <a:off x="7812000" y="4365720"/>
            <a:ext cx="970200" cy="35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5T07:53:08Z</dcterms:created>
  <dc:creator>Gihyo</dc:creator>
  <dc:description/>
  <dc:language>en-US</dc:language>
  <cp:lastModifiedBy>a-hirai</cp:lastModifiedBy>
  <dcterms:modified xsi:type="dcterms:W3CDTF">2010-09-14T03:55:55Z</dcterms:modified>
  <cp:revision>2</cp:revision>
  <dc:subject/>
  <dc:title>商品ごとの利益金額を考慮した棚割りに変更することによって、棚あたりの利益額を増加させることができる。</dc:title>
</cp:coreProperties>
</file>