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898A-AA99-4958-B134-0E358FD1D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3F80-549D-4D53-81BC-C9B6C344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3A73-A666-4302-B43F-C0F641688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5EE-E4CE-4C0F-99F9-CE40A39A1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F86E-74BC-44FC-8DE3-2B8D9FAA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EA95-3035-45EE-9406-FADDF380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721-A888-4DE0-B37A-EE6F9E3D3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CE68-064B-4E99-80E0-ABD491AA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566-4537-4CF4-84DD-F5555D71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02B-310E-424A-B3E4-468D6898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116C-0080-493B-9AE6-81C49FC2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47D-6F94-4A90-96DA-0D32E254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DF074-8127-45DB-8251-558AC4A1229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年上期は広告宣伝費と販売促進費が販売費・一般費の合計の半分ほどを占め、大きな負担となっている。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費用削減のためには、広告宣伝費と販売促進費の効果測定を行ない、その効果をきちんと精査していく必要があると思われ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539640" y="1542960"/>
            <a:ext cx="8064720" cy="5270760"/>
          </a:xfrm>
          <a:prstGeom prst="rect">
            <a:avLst/>
          </a:prstGeom>
          <a:ln w="0">
            <a:noFill/>
          </a:ln>
        </p:spPr>
      </p:pic>
      <p:sp>
        <p:nvSpPr>
          <p:cNvPr id="43" name="円/楕円 4"/>
          <p:cNvSpPr/>
          <p:nvPr/>
        </p:nvSpPr>
        <p:spPr>
          <a:xfrm>
            <a:off x="7236000" y="3255840"/>
            <a:ext cx="1368360" cy="4320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6366600" y="229716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0000"/>
                </a:solidFill>
                <a:latin typeface="Calibri"/>
              </a:rPr>
              <a:t>広告宣伝費と販売促進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800" spc="-1" strike="noStrike">
                <a:solidFill>
                  <a:srgbClr val="ff0000"/>
                </a:solidFill>
                <a:latin typeface="Calibri"/>
              </a:rPr>
              <a:t>で全体の</a:t>
            </a:r>
            <a:r>
              <a:rPr b="1" i="1" lang="en-US" sz="1800" spc="-1" strike="noStrike">
                <a:solidFill>
                  <a:srgbClr val="ff0000"/>
                </a:solidFill>
                <a:latin typeface="Calibri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右矢印 6"/>
          <p:cNvSpPr/>
          <p:nvPr/>
        </p:nvSpPr>
        <p:spPr>
          <a:xfrm rot="323400">
            <a:off x="4832280" y="3028680"/>
            <a:ext cx="2239920" cy="52848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右矢印 8"/>
          <p:cNvSpPr/>
          <p:nvPr/>
        </p:nvSpPr>
        <p:spPr>
          <a:xfrm rot="20502600">
            <a:off x="5005080" y="3973320"/>
            <a:ext cx="2239920" cy="52704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07:41:00Z</dcterms:created>
  <dc:creator>Gihyo</dc:creator>
  <dc:description/>
  <dc:language>en-US</dc:language>
  <cp:lastModifiedBy>Gihyo</cp:lastModifiedBy>
  <dcterms:modified xsi:type="dcterms:W3CDTF">2010-09-14T03:43:40Z</dcterms:modified>
  <cp:revision>2</cp:revision>
  <dc:subject/>
  <dc:title>2010年上期は広告宣伝費と販売促進費が販売費・一般費の合計の半分ほどを占め、大きな負担となっている。 費用削減のためには、広告宣伝費と販売促進費の効果測定を行ない、その効果をきちんと精査していく必要があると思われる。</dc:title>
</cp:coreProperties>
</file>