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3C8E-3DB8-4330-9355-02F01A0CE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0C8C-9E92-4DFD-BB7B-F4D686C1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0CE5-1414-4EBD-AD70-BCDA7C866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11E-E465-4A0A-8BE6-F90E55AE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377-893C-4B73-8C46-00F3BF17D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11F-71F2-4483-9B1A-C995738AA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F909-E8D6-4F71-96D0-E0AB828C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47B1-C3FC-47A5-B669-A9B73786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1EA-CB44-4AEC-B92D-F2EF501E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28C5-89EF-426C-835B-D23CF592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AA3-BDC1-4E8C-A475-D59C908C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CE52-0114-49E9-B68D-CE31D3C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CE163-A863-41AD-ABA1-05BEAD19E05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自転車用品事業部の中で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ウェア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『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シューズ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』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の売上が著しく伸びている。来期はこの分野の販促を強化し、自転車用品事業部の一層の成長につなげていきた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1538280"/>
            <a:ext cx="7962840" cy="5203800"/>
          </a:xfrm>
          <a:prstGeom prst="rect">
            <a:avLst/>
          </a:prstGeom>
          <a:ln w="0">
            <a:noFill/>
          </a:ln>
        </p:spPr>
      </p:pic>
      <p:sp>
        <p:nvSpPr>
          <p:cNvPr id="43" name="円/楕円 4"/>
          <p:cNvSpPr/>
          <p:nvPr/>
        </p:nvSpPr>
        <p:spPr>
          <a:xfrm rot="19759800">
            <a:off x="1069560" y="3178080"/>
            <a:ext cx="6640560" cy="1081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5"/>
          <p:cNvSpPr/>
          <p:nvPr/>
        </p:nvSpPr>
        <p:spPr>
          <a:xfrm>
            <a:off x="7466040" y="4797360"/>
            <a:ext cx="793800" cy="432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6:29:55Z</dcterms:created>
  <dc:creator>Gihyo</dc:creator>
  <dc:description/>
  <dc:language>en-US</dc:language>
  <cp:lastModifiedBy>Gihyo</cp:lastModifiedBy>
  <dcterms:modified xsi:type="dcterms:W3CDTF">2010-09-14T03:18:59Z</dcterms:modified>
  <cp:revision>1</cp:revision>
  <dc:subject/>
  <dc:title>自転車用品事業部の中で『ウェア』と『シューズ』の売上が著しく伸びている。来期はこの分野の販促を強化し、自転車用品事業部の一層の成長につなげていきたい。</dc:title>
</cp:coreProperties>
</file>