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3B84-48E1-478B-B796-D227B6954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EE05-E188-4AD6-BF84-7E7DC7E9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22D8-DB68-4BDD-91BD-33746CC40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243D-3A2A-44F1-A882-DD810EC62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9AB8-E30C-403D-B6FF-63C1F41B7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6496-0DE8-4686-BBBE-1F1E8DE6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BD3D-5D21-47BD-9EBF-8816C609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95AA-D4BE-455B-97B4-579ECBC77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1990-1C56-4F1C-9E72-192661B5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170-6EFC-4BE6-A9D8-80AD7DE9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73D5-9584-417F-B5DD-17671C88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2922-9694-45F8-958A-DD3A766E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7C85-CF63-4EA7-936E-32B235BF641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顧客満足度のアンケート調査結果から、今回の新製品導入にあたり、改善すべき項目は、次の３項目となる。</a:t>
            </a:r>
            <a:br>
              <a:rPr sz="2400"/>
            </a:b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①デザインの改善（３製品全て）</a:t>
            </a:r>
            <a:br>
              <a:rPr sz="2400"/>
            </a:b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②味の見直し（スイート）</a:t>
            </a:r>
            <a:br>
              <a:rPr sz="2400"/>
            </a:b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の変更（ビター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タイトル 3"/>
          <p:cNvSpPr/>
          <p:nvPr/>
        </p:nvSpPr>
        <p:spPr>
          <a:xfrm>
            <a:off x="803160" y="5084640"/>
            <a:ext cx="201636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「スタンダード」は、デザインの顧客満足度が、他社製品に比べて低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タイトル 3"/>
          <p:cNvSpPr/>
          <p:nvPr/>
        </p:nvSpPr>
        <p:spPr>
          <a:xfrm>
            <a:off x="3379680" y="5103720"/>
            <a:ext cx="216072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「スイート」は、デザインと味の顧客満足度が、他社製品に比べて低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タイトル 3"/>
          <p:cNvSpPr/>
          <p:nvPr/>
        </p:nvSpPr>
        <p:spPr>
          <a:xfrm>
            <a:off x="6012000" y="5111640"/>
            <a:ext cx="216036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「ビター」は、デザインと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の顧客満足度が、他社製品に比べて低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77960" y="2421000"/>
            <a:ext cx="2149560" cy="2492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3397320" y="2435400"/>
            <a:ext cx="2149560" cy="2479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6040440" y="2436840"/>
            <a:ext cx="214956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09:36:33Z</dcterms:created>
  <dc:creator>Gihyo</dc:creator>
  <dc:description/>
  <dc:language>en-US</dc:language>
  <cp:lastModifiedBy>Gihyo</cp:lastModifiedBy>
  <dcterms:modified xsi:type="dcterms:W3CDTF">2010-09-14T03:30:20Z</dcterms:modified>
  <cp:revision>2</cp:revision>
  <dc:subject/>
  <dc:title>顧客満足度のアンケート調査結果から、今回の新製品導入にあたり、改善すべき項目は、次の３項目となる。 ①デザインの改善（３製品全て） ②味の見直し（スイート） ③CMの変更（ビター）</dc:title>
</cp:coreProperties>
</file>