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D5F3-9299-4BEE-AFF5-C08825D97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F6B2-451C-4418-B345-DFBAD507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155C-4350-4363-B30C-4A12BE12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B0AE-1F85-4452-A694-2B3754B95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268-9E6D-4B29-82E5-C4B15EB16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3915-C511-4A69-8A49-6B44B65F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5890-8464-4707-9410-D5E5AE00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6D5-315F-46B8-B81E-23B2A1A4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D8D-56A8-441E-9669-EA875717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01B-2FEE-40A9-9D95-082B6961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E7AE-9C4C-40A5-8377-CEE00672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22D-344F-419C-98DC-021354D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5974-0AC7-4E71-B34F-740A6A905B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月も引続き売上予算を達成し、順調に推移してきている。下期では上期と比較し、全体の業績が改善してきていると見受けられ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5222880"/>
          </a:xfrm>
          <a:prstGeom prst="rect">
            <a:avLst/>
          </a:prstGeom>
          <a:ln w="0">
            <a:noFill/>
          </a:ln>
        </p:spPr>
      </p:pic>
      <p:sp>
        <p:nvSpPr>
          <p:cNvPr id="43" name="直線コネクタ 5"/>
          <p:cNvSpPr/>
          <p:nvPr/>
        </p:nvSpPr>
        <p:spPr>
          <a:xfrm flipH="1">
            <a:off x="1258920" y="3270240"/>
            <a:ext cx="6842160" cy="0"/>
          </a:xfrm>
          <a:prstGeom prst="line">
            <a:avLst/>
          </a:prstGeom>
          <a:ln w="381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2T05:34:49Z</dcterms:created>
  <dc:creator>Gihyo</dc:creator>
  <dc:description/>
  <dc:language>en-US</dc:language>
  <cp:lastModifiedBy>Gihyo</cp:lastModifiedBy>
  <dcterms:modified xsi:type="dcterms:W3CDTF">2010-09-14T03:41:17Z</dcterms:modified>
  <cp:revision>2</cp:revision>
  <dc:subject/>
  <dc:title>11月も引続き売上予算を達成し、順調に推移してきている。下期では上期と比較し、全体の業績が改善してきていると見受けられる</dc:title>
</cp:coreProperties>
</file>