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C98C-FABB-4728-898F-565DCE9B5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28A3-82A3-4221-BA12-BA9FBDCA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8D5-BF8A-404B-8F05-5938DC9E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E078-97A7-4BC3-A556-E1AB116C9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46AF-032F-4BBE-BE45-090DAFFC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191D-659D-409F-8623-668C1106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2500-6389-4F90-B39D-E4D191526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BFBA-D33B-431C-8F33-FA5C5383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9CE7-59EB-458B-A4D3-D893149D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CC09-FF9B-4526-A9AE-EEFEDC21F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C193-4D6F-4B02-A534-2FE24968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39DE-EF05-497C-8C38-170C8C7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27A7-8229-4E40-BEEF-1CF231E7509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わが社の商品で、缶コーヒーが販売不振に陥っているので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早急にてこ入れ、即ち新製品の投入が必要であ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271000" cy="49690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4"/>
          <p:cNvSpPr/>
          <p:nvPr/>
        </p:nvSpPr>
        <p:spPr>
          <a:xfrm>
            <a:off x="1936800" y="262728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問題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7"/>
          <p:cNvSpPr/>
          <p:nvPr/>
        </p:nvSpPr>
        <p:spPr>
          <a:xfrm>
            <a:off x="1930320" y="5589720"/>
            <a:ext cx="59220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負け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テキスト ボックス 8"/>
          <p:cNvSpPr/>
          <p:nvPr/>
        </p:nvSpPr>
        <p:spPr>
          <a:xfrm>
            <a:off x="6256440" y="2625840"/>
            <a:ext cx="4550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花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テキスト ボックス 9"/>
          <p:cNvSpPr/>
          <p:nvPr/>
        </p:nvSpPr>
        <p:spPr>
          <a:xfrm>
            <a:off x="5744520" y="5587920"/>
            <a:ext cx="86652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金のなる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6"/>
          <p:cNvSpPr/>
          <p:nvPr/>
        </p:nvSpPr>
        <p:spPr>
          <a:xfrm>
            <a:off x="1793880" y="4292640"/>
            <a:ext cx="5025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11"/>
          <p:cNvSpPr/>
          <p:nvPr/>
        </p:nvSpPr>
        <p:spPr>
          <a:xfrm>
            <a:off x="4307040" y="2627280"/>
            <a:ext cx="0" cy="333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右矢印 1"/>
          <p:cNvSpPr/>
          <p:nvPr/>
        </p:nvSpPr>
        <p:spPr>
          <a:xfrm rot="18252600">
            <a:off x="2677320" y="5667480"/>
            <a:ext cx="704520" cy="640080"/>
          </a:xfrm>
          <a:prstGeom prst="rightArrow">
            <a:avLst>
              <a:gd name="adj1" fmla="val 50000"/>
              <a:gd name="adj2" fmla="val 498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06:50:17Z</dcterms:created>
  <dc:creator>Gihyo</dc:creator>
  <dc:description/>
  <dc:language>en-US</dc:language>
  <cp:lastModifiedBy>Gihyo</cp:lastModifiedBy>
  <dcterms:modified xsi:type="dcterms:W3CDTF">2010-09-14T03:30:53Z</dcterms:modified>
  <cp:revision>3</cp:revision>
  <dc:subject/>
  <dc:title>わが社の商品で、缶コーヒーが販売不振に陥っているので 早急にてこ入れ、即ち新製品の投入が必要である。</dc:title>
</cp:coreProperties>
</file>