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4A97-BC59-48D7-90B9-EA7123B2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E738-D74E-4F81-AE1C-D8244635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B47-65D5-44E1-B7C7-FEE06198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6C77-64E4-48E4-BFD2-BB56F27D7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56C4-89CA-494E-A286-748F5AF7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F93E-F40F-4E9F-BBD8-F8B82B46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5B75-0CA7-4235-9BFF-87E73E5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54BF-7776-4B3F-A289-B11309FC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4E7-FE93-49A9-9663-EEFB313E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CD95-6228-4750-A15C-16AFA809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430D-F2B9-4C3C-AC38-E731C216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42F6-52EB-45DE-ADAF-8AFE6A9D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CEC96-FE7B-45D1-8276-F331D86D73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在庫回転率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0”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より低い商品については、発注方法を早急に見直す必要があ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395280" y="1353960"/>
            <a:ext cx="8353440" cy="545976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1116000" y="4437000"/>
            <a:ext cx="6264360" cy="1224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在庫回転率が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c00000"/>
                </a:solidFill>
                <a:latin typeface="Calibri"/>
              </a:rPr>
              <a:t>3.0”</a:t>
            </a:r>
            <a:r>
              <a:rPr b="1" lang="ja-JP" sz="1800" spc="-1" strike="noStrike">
                <a:solidFill>
                  <a:srgbClr val="c00000"/>
                </a:solidFill>
                <a:latin typeface="Calibri"/>
              </a:rPr>
              <a:t>より低いも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5"/>
          <p:cNvSpPr/>
          <p:nvPr/>
        </p:nvSpPr>
        <p:spPr>
          <a:xfrm rot="18956400">
            <a:off x="6194520" y="610524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 rot="18956400">
            <a:off x="5557680" y="6114960"/>
            <a:ext cx="120816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 rot="18956400">
            <a:off x="4005000" y="6114600"/>
            <a:ext cx="1209600" cy="1764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正方形/長方形 10"/>
          <p:cNvSpPr/>
          <p:nvPr/>
        </p:nvSpPr>
        <p:spPr>
          <a:xfrm rot="18956400">
            <a:off x="2446200" y="6129000"/>
            <a:ext cx="120996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正方形/長方形 11"/>
          <p:cNvSpPr/>
          <p:nvPr/>
        </p:nvSpPr>
        <p:spPr>
          <a:xfrm rot="18956400">
            <a:off x="905040" y="6129000"/>
            <a:ext cx="1209600" cy="17604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1:46:09Z</dcterms:created>
  <dc:creator>Gihyo</dc:creator>
  <dc:description/>
  <dc:language>en-US</dc:language>
  <cp:lastModifiedBy>a-hirai</cp:lastModifiedBy>
  <dcterms:modified xsi:type="dcterms:W3CDTF">2010-09-14T03:56:47Z</dcterms:modified>
  <cp:revision>2</cp:revision>
  <dc:subject/>
  <dc:title>在庫回転率が”3.0”より低い商品については、発注方法を早急に見直す必要がある。</dc:title>
</cp:coreProperties>
</file>