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82E9-5190-43F2-A85E-00C4231D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E1E-BBE3-4A4A-9860-511B03EE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9778-0272-4A1A-BEE2-1744C94C7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479-3F64-4795-8663-7A6B0D63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9F4-E7CB-4568-928A-DACB705B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CD42-ABBF-4F6A-8434-0B8040E1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7181-2734-490C-A751-4A20953F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2B3-3B6F-43CE-9743-E1ECF4BC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395A-A76F-4A1E-AC26-0819F0CE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ABB9-E546-42DF-80D6-73DE178A6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6128-4EF6-4F55-A8B0-4708AEE0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A01E-A5A3-43CE-A7C8-B7336817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5EEC-50D2-4740-B79A-E967C98D9DC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自転車用品事業部の売上は上位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つの販売店で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をカバーしているため、こ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つの販売店に絞って販促を実施す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468360" y="1270080"/>
            <a:ext cx="8280360" cy="5411880"/>
          </a:xfrm>
          <a:prstGeom prst="rect">
            <a:avLst/>
          </a:prstGeom>
          <a:ln w="0">
            <a:noFill/>
          </a:ln>
        </p:spPr>
      </p:pic>
      <p:sp>
        <p:nvSpPr>
          <p:cNvPr id="43" name="角丸四角形 4"/>
          <p:cNvSpPr/>
          <p:nvPr/>
        </p:nvSpPr>
        <p:spPr>
          <a:xfrm>
            <a:off x="900000" y="5589720"/>
            <a:ext cx="1800360" cy="647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1187280" y="1835280"/>
            <a:ext cx="1513080" cy="36828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ン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7"/>
          <p:cNvSpPr/>
          <p:nvPr/>
        </p:nvSpPr>
        <p:spPr>
          <a:xfrm>
            <a:off x="2700360" y="3792600"/>
            <a:ext cx="934920" cy="368280"/>
          </a:xfrm>
          <a:prstGeom prst="rect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ン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8"/>
          <p:cNvSpPr/>
          <p:nvPr/>
        </p:nvSpPr>
        <p:spPr>
          <a:xfrm>
            <a:off x="3635280" y="4797360"/>
            <a:ext cx="3384720" cy="368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ン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23:12:26Z</dcterms:created>
  <dc:creator>Gihyo</dc:creator>
  <dc:description/>
  <dc:language>en-US</dc:language>
  <cp:lastModifiedBy>Gihyo</cp:lastModifiedBy>
  <dcterms:modified xsi:type="dcterms:W3CDTF">2010-09-14T03:20:15Z</dcterms:modified>
  <cp:revision>2</cp:revision>
  <dc:subject/>
  <dc:title>自転車用品事業部の売上は上位5つの販売店で8割をカバーしているため、この5つの販売店に絞って販促を実施する</dc:title>
</cp:coreProperties>
</file>